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7.jpeg" ContentType="image/jpeg"/>
  <Override PartName="/ppt/media/image6.jpeg" ContentType="image/jpeg"/>
  <Override PartName="/ppt/media/image8.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alibri"/>
            </a:endParaRPr>
          </a:p>
        </p:txBody>
      </p:sp>
      <p:sp>
        <p:nvSpPr>
          <p:cNvPr id="4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7B418-2990-40E6-9A86-6D3E4BB380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8409-3FE0-4D9A-A893-D1A6A2979B3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F8A8-AABC-4F75-99C9-3EBB07F17022}"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41BC-F1DF-4428-8355-7982FE4284F7}"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34C5-DF40-49DB-9F53-FC1F0A2BB86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29ED-3D46-42BD-BCB2-198C2B2245F8}"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B0FCE-8C3D-4C5A-827C-D5CFC5FD0961}"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7DF33-44E8-40EC-A22D-85376B9D68AE}"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948BC-A2AB-4D29-BE62-70A8AC5295E0}"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E1D0B-4F55-4A97-BEA6-ABF9041E387B}"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4057-E463-4549-9483-E459E1D6AE49}" type="slidenum">
              <a:rPr b="0" lang="en-US" sz="1200" spc="-1" strike="noStrike">
                <a:solidFill>
                  <a:srgbClr val="ffffff"/>
                </a:solidFill>
                <a:latin typeface="Calibri"/>
              </a:rPr>
              <a:t>&lt;number&gt;</a:t>
            </a:fld>
            <a:endParaRPr b="0" lang="en-US" sz="1200" spc="-1" strike="noStrike">
              <a:solidFill>
                <a:srgbClr val="ffffff"/>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CF92D-A25A-4B9C-8B09-C123D9FEBE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997CD-B42A-452C-8FED-6216A2AB2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99DD1D-23C7-4C24-96FA-1303F27AC7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E4E9584-AEBD-44ED-B493-7A77B304EB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89D95A-9D1F-4618-BF8C-AFF5A8232E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8D5CF0-1541-46BE-A4F2-876B31F9A8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B9C5EC-DB24-431C-8000-6868E14204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526828-92D5-4492-9B68-08C9996B93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1F9DE5-9050-4DB7-B800-9237FAD1967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1DB667-9B74-41FE-86A7-97F5CB9FD2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138D5EA-0A06-4A4D-AA0B-A41E7F1B8A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2D8992-E54C-4133-B670-EA523F9E8B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09E04-5914-4785-8FA2-B03BDBAA3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15F423-096A-44D4-89FD-18ED0D5302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8D4BA9-6A2C-4059-BB6A-3319AE97BDA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D2B7CB-DE44-4C4E-BB04-1349F4DC517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B17FE8-376C-43FE-8CA8-50E82840F3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6F7BC2B-A5BB-473B-938D-8F45A1DD484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2F740C-03AC-4F9B-BCDE-C18AF2EB4E8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1E6F36-4834-468B-906D-095E37A8C6A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B71FE7-234F-4651-A523-2D86F961B99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FD116B-22E2-4E05-9978-8F96451F7C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DFD13C7-CE94-42A4-A2DE-A07A2E10CB4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1663C-0C94-48F9-ADBA-F690DE57C6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34DF7CA-7EDE-45C4-9D0F-D350013CB0D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418C7C-DF29-4484-9ECC-636D42430EB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C391CC6-A258-40DF-8F82-E96E0CE0313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238FE1-50F9-4FC1-90C2-0EA3D51D59D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1578E6-EB64-4655-8F7E-A41AA69604B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257D688-60EF-4273-AC9C-720B3BDF2CE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0A89ED7-1679-4707-B030-FAF2E24C793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9DFB738-62D0-4527-92C1-DEE334241E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C8775E-9041-41C3-94B8-972DF681C2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F51FF9E-66CA-45A8-9D80-411266FA07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624C22-37DD-4B4E-A1EB-62248CD32F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7D89B73-17CC-4608-9AB0-CB6FB1DF456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C9B2E6D-5A5A-48B2-9A50-2D288B36CF8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2B1AC82-C301-4792-9A2A-FB01EECF5F5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1A5B16B-99A0-449E-A5F1-DF26147FE90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869FAD5-CC86-4102-A7C5-A63DCFB166C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E4C2C9E-14BA-4292-8AA8-72629610A04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FD68440-AFF5-436C-8879-E42BF91A5D0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6EA0A6A-9396-49C5-8D03-FB80EC48F8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0AB4975-B094-4BF4-A0B5-46B9E8EED01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6FE69AA-5864-4A89-9810-4BC036819E9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B4B6F-DB95-4AE7-A281-5FD29E6A32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F08E92D-D7C1-4533-B67A-B551C6F95C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4B8AA1D-3CE6-476E-88C0-1599B95F686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BAA508C-894E-48E1-844E-97491E1333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2E9EC21-9EAB-4ED0-AEFF-64F64AA43FC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33DDE1-AFDB-451E-86D0-85DB3194C1F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1695F-E4E4-44DD-894D-DA35F98AD8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26438-647A-45F0-8324-E91D86862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FB94C6-06C2-4B34-8BB3-0BD8BA7B8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AD90F1-92B3-48B1-8A27-EFF46DE744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A5A2A-C7FC-4AC8-B29A-4D0C10FD0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C3858-B78E-4514-9F03-0CB5F20ED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003E2-3B28-4FD4-BD72-F53B4AA6A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E38E1-C98E-4380-A62E-C9A40FE71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F735B-DAAC-402D-AC09-977762839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6CB83B-BD52-44C6-99D5-7749B5F59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C84BB-0D77-428A-9059-3277FF945D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9A4EFA-C0FB-43A2-BBD6-6047ACF3B4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DE832D-7A69-41F3-A5A0-3E73F2040E3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3B54F7-CB2E-49D9-9846-052619B0AD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212B01-56C9-416F-A212-E4E5DF0A12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156DDF-93E8-4E6E-A6A9-1B6723577F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DE856-CAFA-4253-A055-07C90C7D92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DA9B3E-2CE4-48CC-9B89-0B716AFC6B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650D45-618A-4A41-8BC5-BE3CBE6C0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D6D56B-48C9-4905-81EA-5F3CA8B4F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B9B1B4-1530-4A16-833C-0A7BA42D8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703B6B-A1D9-4F80-93BE-187EFA5D49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BF52E2-D193-44BE-9B26-C3AD07104C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9FA33D-0800-453A-B395-CBD1880EEB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5DBF19-473E-4E68-93A7-B1606C31C1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E252ED-6EBF-4AAD-A691-CD75D781AC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458404-05E9-439D-8F8F-CED358B1D4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925835-9482-4AB6-9299-38E428B05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22977-1EA4-4A3A-AD09-F5A6CED1F3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9CC864-5DE2-483F-80B2-97FA15BDE9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DB92E2-AFAE-4AA1-BFDA-BF79CBBAF9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C5FDA8-13A5-410E-9B32-732C790F7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526232-0AAE-4273-9C12-CAC64AD972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0A75F-B8BF-4E9D-BE72-49201641F8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F1E456-51B3-43CD-B766-B8AEF70A6E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F30009-6D25-47AE-8758-557AEC338D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9B968F-658D-4383-8B95-D0B0E857670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34E44E2-DD2B-480C-B64F-7C80DC58E9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5BDBD-0F9F-4BB3-9391-C35AA5DAE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CA7261-7775-4776-8A3F-488844D45D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229198-D075-4390-85CA-1CB05777B5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9C9535-55A8-4B73-83D3-471085BAB0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F11F87-7A82-4CF4-89F3-21B7969F78A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3270FB-E235-40DE-A23F-EA8A58D67B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CFE98-08A9-41BB-81D8-4079391853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BA528-F10F-4F1F-86DF-8E5858B3FA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FD7264-223C-43E0-9C7B-0CD655CC7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A2C29-2A14-47CA-9320-137E2DDA82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352A0D-C79F-4C7D-BD08-238918ED27A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31738-5AF6-4F13-B105-D9A10E198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9E0B3F-E0B0-4259-A455-6EC65BF85BD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A7B1F3-54B8-46AB-8BA0-E983078F33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CF66A4-D131-4AA8-9B8D-DFE3561AFA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B10831-EF70-4C45-9CD4-5AC0E34644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215204-B603-4206-9320-BC8E22F0D3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F11F44-96CE-494B-9D1E-C54BE8D167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AEE909-831B-4293-9F06-3FC53CD784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15DDE2-1485-436C-85B8-A9F0ECA6D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5CA164-182C-405E-B123-01F43F23C3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D591C-DBFF-4FD0-8894-E6606C4DF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6036F-0031-4A04-BF35-24E2A4A2FA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858F19-80D0-4EDF-B90D-64D3B31C22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881137C-3C61-491F-8240-99794F4191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46D521-C334-46E7-9601-280E6EFB63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5D96732-DF33-4AF8-9C66-AA911D26BF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A3D6016-F0BD-4141-AC11-706677E386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96184D-E036-4AB3-AE86-88DF7F0CBA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597DC6-F9D4-459E-9E48-AB06E5AF94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367185-FA1B-422C-A83C-0D17A56E6D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2C2ECE-85D7-4D1C-B8CE-8D2F078FF9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7CFC5C-160B-4D7C-80E0-0C02E1D1F3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0EFD9-F56F-4BE9-AB63-318096089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1F1032-6EBC-4261-AFED-15B84BE69D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730272-DA5A-4F96-BAF3-7E4CE6EA7E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10259F7-9E9A-49A4-8C3D-6C8B5FF3E39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12040F-B788-4C2C-AA43-0D548C0BA1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08C406D-C8AE-4DE3-BF2D-81915CF4EE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B65B43-CBDD-44E9-A2DB-F18037E0C4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47AB7B-515C-4D0C-A646-9679B17C21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20EE95-8778-4AF1-90CB-B52CE5AEDA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3E36E8-C8E8-4BE9-9C0B-71B9B715AA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2E4620-D483-4216-B50B-1645FF6235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40C71F-10DD-4B3A-AFA6-3BBCB5D6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76AB54-3998-4AB0-BC0F-1656440E12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816360-38D5-477E-B233-D82354E725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D04936-9502-4618-8484-EB84B213C9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BC8AD2-25D0-40F8-AF5B-1D4E5870E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B68AE1-EE1A-4043-877F-138FE95FE0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4B123F-CA85-4327-B242-F2189CAC76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063348-1C88-48E4-BF82-D26B246ED7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0E3B9D1-65F6-4FFE-9021-4C41267B77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B8D769-2701-4318-9B81-528C8C7E77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3855C9-C652-4B32-A7B2-981555B74FC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F2E0-765F-4AFE-AA44-8F323A7210A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33EEC-5449-48AB-9A1C-2C365A6AADA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5E8D7-11BC-40D9-9659-0F0B1AAD7A8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3E191-0DF7-4DFF-9837-A44BF77653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15F42-D3D3-4FEC-B78B-B69AEF43362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6CC46-06F9-46D0-ACCB-8773002D1F0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0066A-0526-4B84-8618-D69214CE417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E6BF-A0FB-4481-A790-16B035CD433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35499-F01B-4F4C-A077-C649BCABBBE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1A3E-4768-477B-837F-348CBD112E1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292B1-6788-4522-9337-4936DDDDF36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BB21E-F1DE-43FA-9BCA-63BA5391A56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Characters you now know:  </a:t>
            </a:r>
            <a:r>
              <a:rPr b="0" lang="zh-CN" sz="4000" spc="-1" strike="noStrike">
                <a:solidFill>
                  <a:srgbClr val="ffffff"/>
                </a:solidFill>
                <a:latin typeface="Calibri"/>
                <a:ea typeface="宋体"/>
              </a:rPr>
              <a:t>人大天太</a:t>
            </a:r>
            <a:endParaRPr b="0" lang="en-US" sz="4000" spc="-1" strike="noStrike">
              <a:solidFill>
                <a:srgbClr val="ffffff"/>
              </a:solidFill>
              <a:latin typeface="Calibri"/>
            </a:endParaRPr>
          </a:p>
        </p:txBody>
      </p:sp>
      <p:sp>
        <p:nvSpPr>
          <p:cNvPr id="50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ea typeface="宋体"/>
              </a:rPr>
              <a:t>Vocabulary from those characters:</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人</a:t>
            </a:r>
            <a:r>
              <a:rPr b="0" lang="en-US" sz="2000" spc="-1" strike="noStrike">
                <a:solidFill>
                  <a:srgbClr val="ffffff"/>
                </a:solidFill>
                <a:latin typeface="Calibri"/>
                <a:ea typeface="宋体"/>
              </a:rPr>
              <a:t>=adult</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太大</a:t>
            </a:r>
            <a:r>
              <a:rPr b="0" lang="en-US" sz="2000" spc="-1" strike="noStrike">
                <a:solidFill>
                  <a:srgbClr val="ffffff"/>
                </a:solidFill>
                <a:latin typeface="Calibri"/>
                <a:ea typeface="宋体"/>
              </a:rPr>
              <a:t>=too big</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大天</a:t>
            </a:r>
            <a:r>
              <a:rPr b="0" lang="en-US" sz="2000" spc="-1" strike="noStrike">
                <a:solidFill>
                  <a:srgbClr val="ffffff"/>
                </a:solidFill>
                <a:latin typeface="Calibri"/>
                <a:ea typeface="宋体"/>
              </a:rPr>
              <a:t>=big sk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天天</a:t>
            </a:r>
            <a:r>
              <a:rPr b="0" lang="en-US" sz="2000" spc="-1" strike="noStrike">
                <a:solidFill>
                  <a:srgbClr val="ffffff"/>
                </a:solidFill>
                <a:latin typeface="Calibri"/>
                <a:ea typeface="宋体"/>
              </a:rPr>
              <a:t>=everyday</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宋体"/>
              </a:rPr>
              <a:t>人人</a:t>
            </a:r>
            <a:r>
              <a:rPr b="0" lang="en-US" sz="2000" spc="-1" strike="noStrike">
                <a:solidFill>
                  <a:srgbClr val="ffffff"/>
                </a:solidFill>
                <a:latin typeface="Calibri"/>
                <a:ea typeface="宋体"/>
              </a:rPr>
              <a:t>=peop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Here are the characters in this lesson that you have not learned yet.  Don’t worry about learning them, just listen to the audio and look at the pictures to understand the story.  </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在</a:t>
            </a:r>
            <a:r>
              <a:rPr b="0" lang="en-US" sz="2000" spc="-1" strike="noStrike">
                <a:solidFill>
                  <a:srgbClr val="ffffff"/>
                </a:solidFill>
                <a:latin typeface="Calibri"/>
                <a:ea typeface="宋体"/>
              </a:rPr>
              <a:t>=at or on</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下</a:t>
            </a:r>
            <a:r>
              <a:rPr b="0" lang="en-US" sz="2000" spc="-1" strike="noStrike">
                <a:solidFill>
                  <a:srgbClr val="ffffff"/>
                </a:solidFill>
                <a:latin typeface="Calibri"/>
                <a:ea typeface="宋体"/>
              </a:rPr>
              <a:t>=under</a:t>
            </a:r>
            <a:endParaRPr b="0" lang="en-US" sz="20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叫</a:t>
            </a:r>
            <a:r>
              <a:rPr b="0" lang="en-US" sz="2000" spc="-1" strike="noStrike">
                <a:solidFill>
                  <a:srgbClr val="ffffff"/>
                </a:solidFill>
                <a:latin typeface="Calibri"/>
                <a:ea typeface="宋体"/>
              </a:rPr>
              <a:t>=call (as in I am </a:t>
            </a:r>
            <a:r>
              <a:rPr b="1" lang="en-US" sz="2000" spc="-1" strike="noStrike" u="sng">
                <a:solidFill>
                  <a:srgbClr val="ffffff"/>
                </a:solidFill>
                <a:uFillTx/>
                <a:latin typeface="Calibri"/>
                <a:ea typeface="宋体"/>
              </a:rPr>
              <a:t>called</a:t>
            </a:r>
            <a:r>
              <a:rPr b="0" lang="en-US" sz="2000" spc="-1" strike="noStrike">
                <a:solidFill>
                  <a:srgbClr val="ffffff"/>
                </a:solidFill>
                <a:latin typeface="Calibri"/>
                <a:ea typeface="宋体"/>
              </a:rPr>
              <a:t> Lisa)</a:t>
            </a:r>
            <a:endParaRPr b="0" lang="en-US" sz="2000" spc="-1" strike="noStrike">
              <a:solidFill>
                <a:srgbClr val="ffffff"/>
              </a:solidFill>
              <a:latin typeface="Calibri"/>
            </a:endParaRPr>
          </a:p>
          <a:p>
            <a:pPr marL="343080" indent="-343080">
              <a:lnSpc>
                <a:spcPct val="8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吗</a:t>
            </a:r>
            <a:r>
              <a:rPr b="0" lang="en-US" sz="2000" spc="-1" strike="noStrike">
                <a:solidFill>
                  <a:srgbClr val="ffffff"/>
                </a:solidFill>
                <a:latin typeface="Calibri"/>
                <a:ea typeface="宋体"/>
              </a:rPr>
              <a:t>=</a:t>
            </a:r>
            <a:r>
              <a:rPr b="0" lang="en-US" sz="1600" spc="-1" strike="noStrike">
                <a:solidFill>
                  <a:srgbClr val="ffffff"/>
                </a:solidFill>
                <a:latin typeface="Calibri"/>
                <a:ea typeface="宋体"/>
              </a:rPr>
              <a:t>question marker—this character can be put at the end of a sentence to make the sentence into a question.</a:t>
            </a:r>
            <a:endParaRPr b="0" lang="en-US" sz="1600" spc="-1" strike="noStrike">
              <a:solidFill>
                <a:srgbClr val="ffffff"/>
              </a:solidFill>
              <a:latin typeface="Calibri"/>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Calibri"/>
                <a:ea typeface="宋体"/>
              </a:rPr>
              <a:t>不可能</a:t>
            </a:r>
            <a:r>
              <a:rPr b="0" lang="en-US" sz="2000" spc="-1" strike="noStrike">
                <a:solidFill>
                  <a:srgbClr val="ffffff"/>
                </a:solidFill>
                <a:latin typeface="Calibri"/>
                <a:ea typeface="宋体"/>
              </a:rPr>
              <a:t>=impossible, not probable</a:t>
            </a: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501" name="Recorded Sound" descr=""/>
          <p:cNvPicPr/>
          <p:nvPr/>
        </p:nvPicPr>
        <p:blipFill>
          <a:blip r:embed="rId1"/>
          <a:stretch/>
        </p:blipFill>
        <p:spPr>
          <a:xfrm>
            <a:off x="-914400" y="4114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8160" fill="hold"/>
                                        <p:tgtEl>
                                          <p:spTgt spid="5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Calibri"/>
            </a:endParaRPr>
          </a:p>
        </p:txBody>
      </p:sp>
      <p:sp>
        <p:nvSpPr>
          <p:cNvPr id="532" name=""/>
          <p:cNvSpPr txBox="1"/>
          <p:nvPr/>
        </p:nvSpPr>
        <p:spPr>
          <a:xfrm>
            <a:off x="1218960" y="6080040"/>
            <a:ext cx="7467480" cy="46080"/>
          </a:xfrm>
          <a:prstGeom prst="rect">
            <a:avLst/>
          </a:prstGeom>
          <a:noFill/>
          <a:ln w="0">
            <a:noFill/>
          </a:ln>
        </p:spPr>
        <p:txBody>
          <a:bodyPr tIns="360" bIns="360" anchor="t">
            <a:normAutofit/>
          </a:bodyPr>
          <a:p>
            <a:pPr marL="343080" indent="-343080">
              <a:lnSpc>
                <a:spcPct val="80000"/>
              </a:lnSpc>
              <a:spcBef>
                <a:spcPts val="2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762120" y="609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人</a:t>
            </a:r>
            <a:endParaRPr b="0" lang="en-US" sz="4400" spc="-1" strike="noStrike">
              <a:solidFill>
                <a:srgbClr val="ffffff"/>
              </a:solidFill>
              <a:latin typeface="Calibri"/>
            </a:endParaRPr>
          </a:p>
        </p:txBody>
      </p:sp>
      <p:sp>
        <p:nvSpPr>
          <p:cNvPr id="50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504" name="Picture 2" descr=""/>
          <p:cNvPicPr/>
          <p:nvPr/>
        </p:nvPicPr>
        <p:blipFill>
          <a:blip r:embed="rId1"/>
          <a:stretch/>
        </p:blipFill>
        <p:spPr>
          <a:xfrm>
            <a:off x="3809880" y="2362320"/>
            <a:ext cx="1952640" cy="2914560"/>
          </a:xfrm>
          <a:prstGeom prst="rect">
            <a:avLst/>
          </a:prstGeom>
          <a:ln w="0">
            <a:noFill/>
          </a:ln>
        </p:spPr>
      </p:pic>
      <p:pic>
        <p:nvPicPr>
          <p:cNvPr id="505" name="Recorded Sound" descr=""/>
          <p:cNvPicPr/>
          <p:nvPr/>
        </p:nvPicPr>
        <p:blipFill>
          <a:blip r:embed="rId2"/>
          <a:stretch/>
        </p:blipFill>
        <p:spPr>
          <a:xfrm>
            <a:off x="-609480" y="3200400"/>
            <a:ext cx="30456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051" fill="hold"/>
                                        <p:tgtEl>
                                          <p:spTgt spid="5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endParaRPr b="0" lang="en-US" sz="4400" spc="-1" strike="noStrike">
              <a:solidFill>
                <a:srgbClr val="ffffff"/>
              </a:solidFill>
              <a:latin typeface="Calibri"/>
            </a:endParaRPr>
          </a:p>
        </p:txBody>
      </p:sp>
      <p:pic>
        <p:nvPicPr>
          <p:cNvPr id="507" name="Picture 2" descr=""/>
          <p:cNvPicPr/>
          <p:nvPr/>
        </p:nvPicPr>
        <p:blipFill>
          <a:blip r:embed="rId1"/>
          <a:stretch/>
        </p:blipFill>
        <p:spPr>
          <a:xfrm>
            <a:off x="3505320" y="2133720"/>
            <a:ext cx="1952640" cy="2914560"/>
          </a:xfrm>
          <a:prstGeom prst="rect">
            <a:avLst/>
          </a:prstGeom>
          <a:ln w="0">
            <a:noFill/>
          </a:ln>
        </p:spPr>
      </p:pic>
      <p:pic>
        <p:nvPicPr>
          <p:cNvPr id="508" name="Recorded Sound" descr=""/>
          <p:cNvPicPr/>
          <p:nvPr/>
        </p:nvPicPr>
        <p:blipFill>
          <a:blip r:embed="rId2"/>
          <a:stretch/>
        </p:blipFill>
        <p:spPr>
          <a:xfrm>
            <a:off x="-114300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01" fill="hold"/>
                                        <p:tgtEl>
                                          <p:spTgt spid="5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太大</a:t>
            </a:r>
            <a:endParaRPr b="0" lang="en-US" sz="4400" spc="-1" strike="noStrike">
              <a:solidFill>
                <a:srgbClr val="ffffff"/>
              </a:solidFill>
              <a:latin typeface="Calibri"/>
            </a:endParaRPr>
          </a:p>
        </p:txBody>
      </p:sp>
      <p:pic>
        <p:nvPicPr>
          <p:cNvPr id="510" name="" descr=""/>
          <p:cNvPicPr/>
          <p:nvPr/>
        </p:nvPicPr>
        <p:blipFill>
          <a:blip r:embed="rId1"/>
          <a:stretch/>
        </p:blipFill>
        <p:spPr>
          <a:xfrm>
            <a:off x="457200" y="1600200"/>
            <a:ext cx="8229600" cy="4525920"/>
          </a:xfrm>
          <a:prstGeom prst="rect">
            <a:avLst/>
          </a:prstGeom>
          <a:ln w="0">
            <a:noFill/>
          </a:ln>
        </p:spPr>
      </p:pic>
      <p:pic>
        <p:nvPicPr>
          <p:cNvPr id="511" name="Picture 2" descr="C:\Documents and Settings\Owner\Local Settings\Temporary Internet Files\Content.IE5\8QQV33VN\MCBD05514_0000[1].wmf"/>
          <p:cNvPicPr/>
          <p:nvPr/>
        </p:nvPicPr>
        <p:blipFill>
          <a:blip r:embed="rId2"/>
          <a:stretch/>
        </p:blipFill>
        <p:spPr>
          <a:xfrm>
            <a:off x="2438280" y="2362320"/>
            <a:ext cx="4284720" cy="3919320"/>
          </a:xfrm>
          <a:prstGeom prst="rect">
            <a:avLst/>
          </a:prstGeom>
          <a:ln w="0">
            <a:noFill/>
          </a:ln>
        </p:spPr>
      </p:pic>
      <p:pic>
        <p:nvPicPr>
          <p:cNvPr id="512" name="Recorded Sound" descr=""/>
          <p:cNvPicPr/>
          <p:nvPr/>
        </p:nvPicPr>
        <p:blipFill>
          <a:blip r:embed="rId3"/>
          <a:stretch/>
        </p:blipFill>
        <p:spPr>
          <a:xfrm>
            <a:off x="-76212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650" fill="hold"/>
                                        <p:tgtEl>
                                          <p:spTgt spid="51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天</a:t>
            </a:r>
            <a:endParaRPr b="0" lang="en-US" sz="4400" spc="-1" strike="noStrike">
              <a:solidFill>
                <a:srgbClr val="ffffff"/>
              </a:solidFill>
              <a:latin typeface="Calibri"/>
            </a:endParaRPr>
          </a:p>
        </p:txBody>
      </p:sp>
      <p:pic>
        <p:nvPicPr>
          <p:cNvPr id="514" name="Picture 2" descr="C:\Users\mark\Pictures\2008-08-08 click art\HPI\Disk5\1000616683.jpg"/>
          <p:cNvPicPr/>
          <p:nvPr/>
        </p:nvPicPr>
        <p:blipFill>
          <a:blip r:embed="rId1"/>
          <a:stretch/>
        </p:blipFill>
        <p:spPr>
          <a:xfrm>
            <a:off x="2133720" y="2057400"/>
            <a:ext cx="4790880" cy="3200400"/>
          </a:xfrm>
          <a:prstGeom prst="rect">
            <a:avLst/>
          </a:prstGeom>
          <a:ln w="0">
            <a:noFill/>
          </a:ln>
        </p:spPr>
      </p:pic>
      <p:pic>
        <p:nvPicPr>
          <p:cNvPr id="515" name="Recorded Sound" descr=""/>
          <p:cNvPicPr/>
          <p:nvPr/>
        </p:nvPicPr>
        <p:blipFill>
          <a:blip r:embed="rId2"/>
          <a:stretch/>
        </p:blipFill>
        <p:spPr>
          <a:xfrm>
            <a:off x="-685800" y="3276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2600" fill="hold"/>
                                        <p:tgtEl>
                                          <p:spTgt spid="5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6"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天太大</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518" name="Recorded Sound" descr=""/>
          <p:cNvPicPr/>
          <p:nvPr/>
        </p:nvPicPr>
        <p:blipFill>
          <a:blip r:embed="rId2"/>
          <a:stretch/>
        </p:blipFill>
        <p:spPr>
          <a:xfrm>
            <a:off x="-1219320" y="3962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3901" fill="hold"/>
                                        <p:tgtEl>
                                          <p:spTgt spid="51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19" name="Picture 2" descr="C:\Users\mark\Pictures\2008-08-08 click art\HPI\Disk5\1000616683.jpg"/>
          <p:cNvPicPr/>
          <p:nvPr/>
        </p:nvPicPr>
        <p:blipFill>
          <a:blip r:embed="rId1"/>
          <a:stretch/>
        </p:blipFill>
        <p:spPr>
          <a:xfrm>
            <a:off x="0" y="0"/>
            <a:ext cx="9144000" cy="6858000"/>
          </a:xfrm>
          <a:prstGeom prst="rect">
            <a:avLst/>
          </a:prstGeom>
          <a:ln w="0">
            <a:noFill/>
          </a:ln>
        </p:spPr>
      </p:pic>
      <p:sp>
        <p:nvSpPr>
          <p:cNvPr id="5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Calibri"/>
                <a:ea typeface="宋体"/>
              </a:rPr>
              <a:t>大人</a:t>
            </a:r>
            <a:r>
              <a:rPr b="0" lang="zh-CN" sz="4400" spc="-1" strike="noStrike">
                <a:solidFill>
                  <a:srgbClr val="ff0000"/>
                </a:solidFill>
                <a:latin typeface="Calibri"/>
                <a:ea typeface="宋体"/>
              </a:rPr>
              <a:t>在</a:t>
            </a:r>
            <a:r>
              <a:rPr b="0" lang="zh-CN" sz="4400" spc="-1" strike="noStrike">
                <a:solidFill>
                  <a:srgbClr val="ffffff"/>
                </a:solidFill>
                <a:latin typeface="Calibri"/>
                <a:ea typeface="宋体"/>
              </a:rPr>
              <a:t>大天</a:t>
            </a:r>
            <a:r>
              <a:rPr b="0" lang="zh-CN" sz="4400" spc="-1" strike="noStrike">
                <a:solidFill>
                  <a:srgbClr val="ff0000"/>
                </a:solidFill>
                <a:latin typeface="Calibri"/>
                <a:ea typeface="宋体"/>
              </a:rPr>
              <a:t>下</a:t>
            </a:r>
            <a:br>
              <a:rPr sz="4400"/>
            </a:br>
            <a:endParaRPr b="0" lang="en-US" sz="4400" spc="-1" strike="noStrike">
              <a:solidFill>
                <a:srgbClr val="ffffff"/>
              </a:solidFill>
              <a:latin typeface="Calibri"/>
            </a:endParaRPr>
          </a:p>
        </p:txBody>
      </p:sp>
      <p:pic>
        <p:nvPicPr>
          <p:cNvPr id="521" name="Picture 2" descr="C:\Documents and Settings\Owner\Local Settings\Temporary Internet Files\Content.IE5\8QQV33VN\MCBD05514_0000[1].wmf"/>
          <p:cNvPicPr/>
          <p:nvPr/>
        </p:nvPicPr>
        <p:blipFill>
          <a:blip r:embed="rId2"/>
          <a:stretch/>
        </p:blipFill>
        <p:spPr>
          <a:xfrm>
            <a:off x="2971800" y="4038480"/>
            <a:ext cx="2913120" cy="2665440"/>
          </a:xfrm>
          <a:prstGeom prst="rect">
            <a:avLst/>
          </a:prstGeom>
          <a:ln w="0">
            <a:noFill/>
          </a:ln>
        </p:spPr>
      </p:pic>
      <p:pic>
        <p:nvPicPr>
          <p:cNvPr id="522" name="Recorded Sound" descr=""/>
          <p:cNvPicPr/>
          <p:nvPr/>
        </p:nvPicPr>
        <p:blipFill>
          <a:blip r:embed="rId3"/>
          <a:stretch/>
        </p:blipFill>
        <p:spPr>
          <a:xfrm>
            <a:off x="-838080" y="31240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4501" fill="hold"/>
                                        <p:tgtEl>
                                          <p:spTgt spid="5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ea typeface="宋体"/>
              </a:rPr>
              <a:t>大人</a:t>
            </a:r>
            <a:r>
              <a:rPr b="0" lang="zh-CN" sz="4000" spc="-1" strike="noStrike">
                <a:solidFill>
                  <a:srgbClr val="ff0000"/>
                </a:solidFill>
                <a:latin typeface="Calibri"/>
                <a:ea typeface="宋体"/>
              </a:rPr>
              <a:t>叫</a:t>
            </a:r>
            <a:r>
              <a:rPr b="0" lang="en-US" sz="4000" spc="-1" strike="noStrike">
                <a:solidFill>
                  <a:srgbClr val="ffffff"/>
                </a:solidFill>
                <a:latin typeface="Calibri"/>
                <a:ea typeface="宋体"/>
              </a:rPr>
              <a:t>Yaoming </a:t>
            </a:r>
            <a:r>
              <a:rPr b="0" lang="zh-CN" sz="4000" spc="-1" strike="noStrike">
                <a:solidFill>
                  <a:srgbClr val="ff0000"/>
                </a:solidFill>
                <a:latin typeface="Calibri"/>
                <a:ea typeface="宋体"/>
              </a:rPr>
              <a:t>吗</a:t>
            </a:r>
            <a:r>
              <a:rPr b="0" lang="zh-CN" sz="4000" spc="-1" strike="noStrike">
                <a:solidFill>
                  <a:srgbClr val="ffffff"/>
                </a:solidFill>
                <a:latin typeface="Calibri"/>
                <a:ea typeface="宋体"/>
              </a:rPr>
              <a:t>？</a:t>
            </a:r>
            <a:br>
              <a:rPr sz="4000"/>
            </a:br>
            <a:endParaRPr b="0" lang="en-US" sz="4000" spc="-1" strike="noStrike">
              <a:solidFill>
                <a:srgbClr val="ffffff"/>
              </a:solidFill>
              <a:latin typeface="Calibri"/>
            </a:endParaRPr>
          </a:p>
        </p:txBody>
      </p:sp>
      <p:pic>
        <p:nvPicPr>
          <p:cNvPr id="524" name="Picture 2" descr="C:\Documents and Settings\Owner\Local Settings\Temporary Internet Files\Content.IE5\8QQV33VN\MCBD05514_0000[1].wmf"/>
          <p:cNvPicPr/>
          <p:nvPr/>
        </p:nvPicPr>
        <p:blipFill>
          <a:blip r:embed="rId1"/>
          <a:stretch/>
        </p:blipFill>
        <p:spPr>
          <a:xfrm>
            <a:off x="2428920" y="2154240"/>
            <a:ext cx="4286160" cy="3417840"/>
          </a:xfrm>
          <a:prstGeom prst="rect">
            <a:avLst/>
          </a:prstGeom>
          <a:ln w="0">
            <a:noFill/>
          </a:ln>
        </p:spPr>
      </p:pic>
      <p:pic>
        <p:nvPicPr>
          <p:cNvPr id="525" name="Recorded Sound" descr=""/>
          <p:cNvPicPr/>
          <p:nvPr/>
        </p:nvPicPr>
        <p:blipFill>
          <a:blip r:embed="rId2"/>
          <a:stretch/>
        </p:blipFill>
        <p:spPr>
          <a:xfrm>
            <a:off x="-1295280" y="3886200"/>
            <a:ext cx="304560" cy="30492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750" fill="hold"/>
                                        <p:tgtEl>
                                          <p:spTgt spid="5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Calibri"/>
                <a:ea typeface="宋体"/>
              </a:rPr>
              <a:t>不可能</a:t>
            </a:r>
            <a:br>
              <a:rPr sz="4000"/>
            </a:br>
            <a:endParaRPr b="0" lang="en-US" sz="4000" spc="-1" strike="noStrike">
              <a:solidFill>
                <a:srgbClr val="ffffff"/>
              </a:solidFill>
              <a:latin typeface="Calibri"/>
            </a:endParaRPr>
          </a:p>
        </p:txBody>
      </p:sp>
      <p:pic>
        <p:nvPicPr>
          <p:cNvPr id="527" name="Picture 4" descr="http://smith.mn/nbashort/tall-yaoming.jpg"/>
          <p:cNvPicPr/>
          <p:nvPr/>
        </p:nvPicPr>
        <p:blipFill>
          <a:blip r:embed="rId1"/>
          <a:stretch/>
        </p:blipFill>
        <p:spPr>
          <a:xfrm>
            <a:off x="3276720" y="1676520"/>
            <a:ext cx="2619360" cy="3809880"/>
          </a:xfrm>
          <a:prstGeom prst="rect">
            <a:avLst/>
          </a:prstGeom>
          <a:ln w="0">
            <a:noFill/>
          </a:ln>
        </p:spPr>
      </p:pic>
      <p:pic>
        <p:nvPicPr>
          <p:cNvPr id="528" name="Content Placeholder 5" descr=""/>
          <p:cNvPicPr/>
          <p:nvPr/>
        </p:nvPicPr>
        <p:blipFill>
          <a:blip r:embed="rId2"/>
          <a:stretch/>
        </p:blipFill>
        <p:spPr>
          <a:xfrm>
            <a:off x="450720" y="1596960"/>
            <a:ext cx="8242560" cy="4864320"/>
          </a:xfrm>
          <a:prstGeom prst="rect">
            <a:avLst/>
          </a:prstGeom>
          <a:ln w="0">
            <a:noFill/>
          </a:ln>
        </p:spPr>
      </p:pic>
      <p:pic>
        <p:nvPicPr>
          <p:cNvPr id="529" name="Picture 2" descr=""/>
          <p:cNvPicPr/>
          <p:nvPr/>
        </p:nvPicPr>
        <p:blipFill>
          <a:blip r:embed="rId3"/>
          <a:stretch/>
        </p:blipFill>
        <p:spPr>
          <a:xfrm>
            <a:off x="4495680" y="2666880"/>
            <a:ext cx="1390680" cy="2819520"/>
          </a:xfrm>
          <a:prstGeom prst="rect">
            <a:avLst/>
          </a:prstGeom>
          <a:ln w="0">
            <a:noFill/>
          </a:ln>
        </p:spPr>
      </p:pic>
      <p:pic>
        <p:nvPicPr>
          <p:cNvPr id="530" name="Recorded Sound" descr=""/>
          <p:cNvPicPr/>
          <p:nvPr/>
        </p:nvPicPr>
        <p:blipFill>
          <a:blip r:embed="rId4"/>
          <a:stretch/>
        </p:blipFill>
        <p:spPr>
          <a:xfrm>
            <a:off x="-76212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3000" fill="hold"/>
                                        <p:tgtEl>
                                          <p:spTgt spid="53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8T14:21:06Z</dcterms:created>
  <dc:creator>Mark Sabey</dc:creator>
  <dc:description/>
  <dc:language>en-US</dc:language>
  <cp:lastModifiedBy>itsuser</cp:lastModifiedBy>
  <dcterms:modified xsi:type="dcterms:W3CDTF">2009-04-16T20:06:23Z</dcterms:modified>
  <cp:revision>17</cp:revision>
  <dc:subject/>
  <dc:title>人</dc:title>
</cp:coreProperties>
</file>